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E00-8CE6-45E0-9AA8-8E8CD855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B66-4E21-470C-A494-BAE72F4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AFF-4B1B-4F91-92AF-A1A23444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E4C-B227-4CD6-A914-354394C4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590-56F7-427F-8366-8FB411C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269-24D5-4AEA-B8EB-0237E068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1B8-70F1-436F-B466-57A6733C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A3D-8A06-48C3-B14B-FC007F5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723-9D27-40DC-9C0D-EA988F0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6EC-6BBB-4951-8058-23F44994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631-11B3-4AE9-9209-323EB64A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537-C028-4617-BC65-CBC62D49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6316-4EE3-4D73-A874-6E06C449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bubble gum produc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/ measur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and have each person blow the different types of gum at differ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blow 3 bubbles of each kind of bubble g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long each bubble is in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523548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5200"/>
                <a:gridCol w="1646280"/>
                <a:gridCol w="1645560"/>
                <a:gridCol w="1645560"/>
                <a:gridCol w="164628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00200"/>
          <a:ext cx="8838720" cy="2971800"/>
        </p:xfrm>
        <a:graphic>
          <a:graphicData uri="http://schemas.openxmlformats.org/drawingml/2006/table">
            <a:tbl>
              <a:tblPr/>
              <a:tblGrid>
                <a:gridCol w="1609920"/>
                <a:gridCol w="2005560"/>
                <a:gridCol w="1607760"/>
                <a:gridCol w="1609920"/>
                <a:gridCol w="200556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64832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USD376</cp:lastModifiedBy>
  <dcterms:modified xsi:type="dcterms:W3CDTF">2011-01-26T16:01:55Z</dcterms:modified>
  <cp:revision>11</cp:revision>
  <dc:subject/>
  <dc:title>Blow a Bigger Bubble</dc:title>
</cp:coreProperties>
</file>